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C2B-90BD-434B-B627-D1E021DC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B91-1F87-4D41-B5EC-632448DD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66C-DD63-4F1A-B876-9D6DF93F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F1B-4C94-4D75-B9B8-4D7022EF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6745-F862-40DA-ACC3-3DE39C92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08CA-47C9-47CD-A697-4EB269EC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80F0-0564-4358-BB75-34C84817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88FC-4CA2-4689-B61F-9B9AE825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0F95-6894-473E-9089-44226AC8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47C0-3A0A-4314-BC33-7030E2CD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E928-AB30-43D3-8638-D855567C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CC8-B709-41AC-9F7D-B78F1794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5436-00B3-446E-AA38-3616A7AF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334F-5A6B-4C26-B091-8942D3D8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4FA0-17A6-4B9B-8B30-758BDAEB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3100-4D6F-4A7C-8723-6919AC81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B61A-258E-4FAF-9E53-71FD366AC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C9FE-D625-4A1F-AE97-DB97FEC3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6FC9-0691-4477-A751-48977CA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665B5-A0D5-47B5-BD24-444A5CAC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1A63-EBC6-48A8-AA5B-DBCF27F2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100CC-83B8-411B-8F96-B8A7D4AA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B63-3306-4B49-81C9-1FCD837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8A1B-21FC-4BC9-8EE2-56E1A299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587E-DAB9-47B0-8575-7FF7C7EF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B9540-6317-404F-A998-85F3CF53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B1599-D08E-4531-8F2A-0B23CC3F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E385-29A8-4D21-8D8D-52D8BD7B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A314B-B8CE-4C04-B59B-A2C387B2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B2FDD-2E71-49F7-BDF1-A296AD52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5FD5-5E48-4499-A9D1-4693D6FC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1955F-3517-4DA2-9E53-1B9274C8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E6F38-332D-44FE-9484-90EE57F7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E66-3EA6-4317-ABF7-CF0D5942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B2D38-1E52-4A7D-B1AC-54A2299E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B4FEB-9409-4937-8505-F2AB41C8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D64B-5BC3-4ED5-8D77-A83F627A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CF7C-DBF9-4A1B-BBC4-959C513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C14B-8452-44AF-A212-24F29CC3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2064-C9CC-4927-8744-C6A7FA09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BA6FE-9C91-4638-A7D6-CFACF158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2711-6DCA-4D9B-A63B-16DF7FB7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6096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607720" y="224136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11420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6096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607720" y="4215240"/>
            <a:ext cx="213948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393FA-1E98-4CB6-A80B-50AA518C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001-658F-4AAD-97A4-7DC459AA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14200" y="1294920"/>
            <a:ext cx="66452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B31-8DCB-4314-8682-7952BF8B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734-4EF5-45CA-896E-27DFBD84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19080" y="421524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6E18-2ECC-47ED-BF39-8D019CD8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19080" y="2241360"/>
            <a:ext cx="324252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4200" y="4215240"/>
            <a:ext cx="664524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DAD-A422-4338-A896-91C4DCAC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9000" y="1258920"/>
            <a:ext cx="8759880" cy="518004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5562360" y="6464160"/>
            <a:ext cx="110484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1114560" y="6463800"/>
            <a:ext cx="4572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543440" y="6463800"/>
            <a:ext cx="1320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7AF0-FAD7-475D-842C-936CF30F288B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115640" y="224280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9000" y="1258920"/>
            <a:ext cx="8759880" cy="518004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1798200"/>
            <a:ext cx="5648400" cy="90036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259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1907640" y="6462720"/>
            <a:ext cx="529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F071-36BB-4FBA-8397-B57344B5C1F7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562360" y="6464160"/>
            <a:ext cx="110484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1114560" y="6462720"/>
            <a:ext cx="4572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7543440" y="6463800"/>
            <a:ext cx="1320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52A8-7D6E-4A6C-ADC9-06D870FD60AB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1080">
              <a:spcBef>
                <a:spcPts val="125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0800" indent="-18900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70000" indent="-1746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33600" indent="-18900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15760" y="1798200"/>
            <a:ext cx="5646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489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1"/>
          </p:nvPr>
        </p:nvSpPr>
        <p:spPr>
          <a:xfrm>
            <a:off x="2313000" y="6462360"/>
            <a:ext cx="44625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aturvårdsverket | Swedish Environmental Protection Ag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EBB2-2707-44CD-81A7-42288E6F93F7}" type="slidenum"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9000" y="195120"/>
            <a:ext cx="8759880" cy="6284880"/>
          </a:xfrm>
          <a:prstGeom prst="rect">
            <a:avLst/>
          </a:prstGeom>
          <a:noFill/>
          <a:ln w="3240">
            <a:solidFill>
              <a:srgbClr val="649b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76360" y="380880"/>
            <a:ext cx="592200" cy="719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9000" y="6299280"/>
            <a:ext cx="8759880" cy="179280"/>
          </a:xfrm>
          <a:prstGeom prst="rect">
            <a:avLst/>
          </a:prstGeom>
          <a:solidFill>
            <a:srgbClr val="649b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8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1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954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4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4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4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2920" y="1520640"/>
            <a:ext cx="7056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Arial"/>
              </a:rPr>
              <a:t>Medfinansiering av transportinfrastruktur – vad betyder de nya riktlinjerna för miljömålen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14320" y="2878200"/>
            <a:ext cx="5648040" cy="32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kael Johannesson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å mycket bättre, Göteborg 8 mars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åste vara möjligt att ompröva besl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ålsögefenomenet, 1994  </a:t>
            </a: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sämre kostnadskontr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lanerat för vissa projekt i decenn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ur mycket nya vägar behöver vi om personbilstrafiken ska minska med 20 % till 203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nansieringsfrågo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200" y="206028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Huvudprincip över statsbudg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rängselskatter som styrmedel ej finansieringskä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edfinansiering kan påverka prioriteringsord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ommuner och regioner med god ekonomi kan gyn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vårare att ompröva beslut pga ingångna av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Avgiftsfinansiering av broar och tunnlar två nackdelar: dyrare och kan styra 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17240" y="907560"/>
            <a:ext cx="66438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t räcker inte med tekniska åtgärder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17240" y="1989000"/>
            <a:ext cx="6643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En övergripande slutsats från EET-strategin är att det inte räcker enbart med tekniska åtgärder, förnybar energi och reningsutrustning för att nå miljömålen”. (Strategin för effektivare energianvändning och transporter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352600" y="4365720"/>
            <a:ext cx="461160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kniken kanske räcker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4200" y="2131920"/>
            <a:ext cx="6980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t är svårt att göra förutsägelser, särskilt om framtide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å kortare sikt (15-20 år) kan man på grund av ledtider etc. se att tekniken inte klarar målet, särskilt inte om transporterna fortsätter att ö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å lång sikt är det svårare att veta hur långt tekniken räck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 till 2050 ska utsläppen ner från 10 till nära n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a problem: buller, yta, barriärer, energi, t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6600" y="1440000"/>
            <a:ext cx="66452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lutsstrategier - val av beslutsalternativ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8400" y="2276640"/>
            <a:ext cx="664524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örväntad ny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t sannolika utfa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sa på bästa möjliga ut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vik sämsta tänkbara ut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4560" y="1294920"/>
            <a:ext cx="71294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undläggande principer för god planer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4560" y="2133360"/>
            <a:ext cx="70466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a problem eller mål, specificera och prioritera mellan olika mål (Politiska besl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a kostnadseffektiva och alternativa sätt att nå målen (Myndighet och exper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råd med allmänhet och intres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era planen utifrån samrå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älj och genomför alternativ/plan (Politiska besl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ölj upp och vidta korrigerande åtgä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74560" y="1052640"/>
            <a:ext cx="73450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 nya planeringsprocess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76000" y="1817280"/>
            <a:ext cx="70563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ositivt med reformering av planeringssyste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ritik från Naturvårdsverket, SIKA och Riskrevis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Inte följt regeringens direk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Inte följt miljöbalkens bestämmelser om miljöbedöm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Inte bidrar till uppfyllelse av transportpolitiska må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Bristfällig tillämpning av fyrstegsprinci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 Påtaglig osäkerhet avseende de samhällsekonomiska analyserna </a:t>
            </a:r>
            <a:r>
              <a:rPr b="0" lang="sv-S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brister i politiska beslutens kvalitet och jämförbar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7345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 nya planeringsprocess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5640" y="2026800"/>
            <a:ext cx="70563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edfinansieringsutredningens förslag otydl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y planeringsprocess påbörjad innan nya planeringssystemet kl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Metod för miljöbedömning utarbetad innan planeringssystemet kl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opplingen mellan den ekonomiska planeringen och den fysiska planeri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v-SE" sz="2000" spc="-1" strike="noStrike">
                <a:solidFill>
                  <a:srgbClr val="000000"/>
                </a:solidFill>
                <a:latin typeface="Arial"/>
              </a:rPr>
              <a:t>Medfinansieringsutredningen (SOU 2011:49) och Effektivare planering av vägar och järnvägar (SOU 2010:5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 sammanhållen planeringsproc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200" y="1989000"/>
            <a:ext cx="664524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Kopplingen mellan ekonomisk och fysisk planering måste förtydligas och stärk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dentifieringen av lämpliga projekt i den ekonomiska planeringen kräver detaljkunskap om t.ex. riksintressen, natura 2000 och miljökvalitetsnor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yrstegprincipen måste finnas med också på projektnivå, val av alternativ ska ing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ransportplaneringen måste knytas till annan samhällsplan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Större genomslag för fyrstegsprinci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4560" y="2133720"/>
            <a:ext cx="72453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Åtgärder som kan påverka transportbehovet och val av transportsä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Åtgärder som ger effektivare utnyttjande av befintlig infrastruktur och ford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05920" y="3789360"/>
            <a:ext cx="688788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fikverket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ättre möjligheter trafikslagsövergripa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fikverket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ättre möjligheter steg 2-4 åtgä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sk för att steg 1 åtgärder inte hamnar i fokus, ej rådigh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82400" y="90756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neringssystemet måste anpassas till kraven på miljöbedöm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1915920"/>
            <a:ext cx="7245360" cy="33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73520" indent="-173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laneringsprocessen och miljöbedömningsprocessen måste integ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et måste finnas tillräckligt med tid för olika moment i process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id för samråd (2-4 styck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Det måste finnas tid att göra om ett moment i miljöbedömnings-proc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Kort om tid mellan regeringsdirektiv om åtgärdsplan och färdi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lternativ bör genereras och konsekvensbedömas under proce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Riksdagen kan inte besluta om enskilda stor objekt efter samråd om MKB (inte före hel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8400" y="98064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ålen måste vara överordnade samhällsekonomiska beräkning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82760" y="2060280"/>
            <a:ext cx="7076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ör användas med beaktande av de brister och osäkerheter som konstater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ör användas för att identifiera kostnadseffektiva åtgärder för måluppfyllelse ej styra samhällsutveck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el på bri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iner, organisering, uppföljning och styrning av metod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kylperioden 40 år allvarlig påverkan på klimatet mycket lä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manvägning av prissatta och icke prissatta effe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erad trafik på längre si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kilda projekt när det är helheten vi vill å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4200" y="1294920"/>
            <a:ext cx="664524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opplingen till mandatperiod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200" y="2241360"/>
            <a:ext cx="664524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tgångspunk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 ny riksdag ska så snart det är praktiskt möjligt ta ställning till den framtida inriktningen och åtgärderna som rör transportinfrastruk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riktningen måste ligga fast över mandatperi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behövs breda politiska uppgörelser inom transportpolitiken liksom inom energi och utrikespolit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 knyta planeringen till mandatperioder riskerar att regeringen inte känner samma behov av breda uppgörel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9:03:26Z</dcterms:created>
  <dc:creator>mij</dc:creator>
  <dc:description/>
  <dc:language>en-US</dc:language>
  <cp:lastModifiedBy>840225-002</cp:lastModifiedBy>
  <dcterms:modified xsi:type="dcterms:W3CDTF">2012-03-21T15:11:41Z</dcterms:modified>
  <cp:revision>58</cp:revision>
  <dc:subject/>
  <dc:title>Verkningsfulla miljöbedömningar av planer och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eskrivning">
    <vt:lpwstr/>
  </property>
  <property fmtid="{D5CDD505-2E9C-101B-9397-08002B2CF9AE}" pid="3" name="Författare">
    <vt:lpwstr/>
  </property>
  <property fmtid="{D5CDD505-2E9C-101B-9397-08002B2CF9AE}" pid="4" name="Löpnummer">
    <vt:lpwstr/>
  </property>
  <property fmtid="{D5CDD505-2E9C-101B-9397-08002B2CF9AE}" pid="5" name="Serienummer">
    <vt:lpwstr/>
  </property>
  <property fmtid="{D5CDD505-2E9C-101B-9397-08002B2CF9AE}" pid="6" name="Verksamhet">
    <vt:lpwstr/>
  </property>
  <property fmtid="{D5CDD505-2E9C-101B-9397-08002B2CF9AE}" pid="7" name="display_urn:schemas-microsoft-com:office:office#Author">
    <vt:lpwstr>Mattsson Jens</vt:lpwstr>
  </property>
  <property fmtid="{D5CDD505-2E9C-101B-9397-08002B2CF9AE}" pid="8" name="display_urn:schemas-microsoft-com:office:office#Editor">
    <vt:lpwstr>Mattsson Jens</vt:lpwstr>
  </property>
</Properties>
</file>