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28692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79640" y="928692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sv-S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8FF5CC4-0AF9-49D7-A4D9-E755AC8C9329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28692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A62D447-C7C5-4945-BC66-C60E4099B94E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28692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tshållare för bildnumm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fld id="{F381D490-E5F7-45FB-BDE3-D3DCAEFD9FBD}" type="slidenum">
              <a:rPr b="0" lang="sv-SE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28692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9BE52C-9F1C-4985-9BA2-F44FB42AEBF1}" type="slidenum"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28692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88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EF55-DE0A-4AD0-9401-AC50D438256E}" type="slidenum">
              <a:rPr b="0" lang="sv-SE" sz="12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CBBB-AC7F-4BBD-89FB-61FE08F55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055-C8A6-4FC1-B6DC-86D82453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2388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3851640"/>
            <a:ext cx="72388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F1B-E764-43FC-BF32-4D57AC07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32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532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3851640"/>
            <a:ext cx="3532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28760" y="3851640"/>
            <a:ext cx="3532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1E2-B07F-47C6-B4D6-7F1FC86D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233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6960" y="1980720"/>
            <a:ext cx="233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4600" y="1980720"/>
            <a:ext cx="233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3851640"/>
            <a:ext cx="233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6960" y="3851640"/>
            <a:ext cx="233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4600" y="3851640"/>
            <a:ext cx="23306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F7C7-5C29-4C1B-AC87-E750E4C6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723888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354-89F8-4DC7-B254-F6F0B5A1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238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EFD-C014-4B93-9BB9-907935AB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32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532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70A-6EF5-44F4-A1C9-5D445C2D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5DB-05B4-45F3-8DB2-80FFE153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E44-C2B8-43DF-94BE-F45611EB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32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532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3851640"/>
            <a:ext cx="3532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CAE-FE84-4DC2-AC40-7A43002F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32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532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28760" y="3851640"/>
            <a:ext cx="3532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0A4-ECD6-4F96-9D7C-DFB0CE0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3532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8760" y="1980720"/>
            <a:ext cx="3532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851640"/>
            <a:ext cx="723888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5909-6C68-43BB-8710-89B1DFC5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0720"/>
            <a:ext cx="7238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19320" y="647676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6AAA-C1BD-409B-81AF-C260D9B69E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5743440"/>
            <a:ext cx="939960" cy="885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219320" y="5715000"/>
            <a:ext cx="723888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us.lst.se/utslappsdata1.html" TargetMode="External"/><Relationship Id="rId2" Type="http://schemas.openxmlformats.org/officeDocument/2006/relationships/hyperlink" Target="http://www.rus.lst.se/utslappsdata1.html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rafikens betydelse för att nå miljömålen </a:t>
            </a:r>
            <a:br>
              <a:rPr sz="3200"/>
            </a:b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rik Ho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/Länsstyrelsen i Värm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23888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God bebyggd miljö</a:t>
            </a:r>
            <a:br>
              <a:rPr sz="32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täder, tätorter och annan bebyggd miljö ska utgöra en god och 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älsosam livsmiljö samt medverka till en god regional och global miljö. Natur- och kulturvärden ska tas till vara och utvecklas…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2924280"/>
            <a:ext cx="7238880" cy="20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ållbar samhällsplane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vardagsmilj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- och grönområ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jöanpassade transpo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älsa och säker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6210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2388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tt rikt växt- och djurliv</a:t>
            </a:r>
            <a:br>
              <a:rPr sz="2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n biologiska mångfalden ska bevaras och nyttjas på ett hållbart sätt, för nuvarande och framtida generationer…</a:t>
            </a:r>
            <a:br>
              <a:rPr sz="1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9640" y="2205000"/>
            <a:ext cx="799164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rnas livsmiljöer och ekosystemen ska värn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r ska kunna fortleva i långsiktigt livskraftiga bestå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änniskor ska ha tillgång till en god natur- och kulturmiljö med rik biologisk mångfa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6922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itat från Miljökonsekvensbeskrivning för Nationell transportplan 2010–2021 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238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systemets relativa påverkan på biologisk mångfald tilltar stadigt, om än i små steg, men genom mängden små steg över lång tid blir den i regionalt och nationellt perspektiv mycket stor”.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 är fortfarande mycket vanligare att alternativ som påtagligt skadar kulturmiljövärdena väljs vid nyinvesteringar framför alternativ som sparar eller vidareutvecklar kulturmiljöns värd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kumulativa effekterna av planen blir på landskapsnivå betydande i form av fragmentering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t bidra till att nå miljömåle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7454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drar planen/projektet till att det är enklare att nå målen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ämför planens/projektets påverkan med avståndet till må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ex. behovet av årlig minskning av utsläppen av växthusg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 stort är bidraget / påver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KB: er och miljömålen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21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r är det ida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jömålen och påverkan beskrivs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 saknas ofta 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åverkan underskattas vanligtv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4797360"/>
            <a:ext cx="69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239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Hur måluppfyllelsen ofta presenteras i planer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6920" y="6210000"/>
            <a:ext cx="7239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22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5013360"/>
            <a:ext cx="705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2276640"/>
            <a:ext cx="61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400720" cy="3306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16000" y="522936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ar inte om utsläppen minskar till 2020 jmf med i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re transportpolitiska stötestenar…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238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tenska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är komplex och blottlägger ofta stora intressekonfli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tik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å vara ambitiös, men är valhänt i att omsätta sina intentioner till praktiskt genomför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örvaltni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r svårt att utveckla och tillämpa de regelverk som fin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Långt kvar …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238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234936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356000" y="3716280"/>
            <a:ext cx="692280" cy="692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58920" y="486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..till de mål där transporterna påverkar m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450828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3399"/>
                </a:solidFill>
                <a:latin typeface="Arial"/>
              </a:rPr>
              <a:t>Hänsynsmålet: ”Transportsystemets utformning, funktion och användning ska anpassas till att ingen ska dödas eller skadas allvarligt. Det ska också bidra till att miljökvalitetsmålen uppnås och att ökad hälsa uppnås”</a:t>
            </a:r>
            <a:endParaRPr b="1" lang="en-US" sz="1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764640"/>
            <a:ext cx="7239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583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upp 10"/>
          <p:cNvGrpSpPr/>
          <p:nvPr/>
        </p:nvGrpSpPr>
        <p:grpSpPr>
          <a:xfrm>
            <a:off x="792000" y="1222200"/>
            <a:ext cx="8352000" cy="4210200"/>
            <a:chOff x="792000" y="1222200"/>
            <a:chExt cx="8352000" cy="4210200"/>
          </a:xfrm>
        </p:grpSpPr>
        <p:sp>
          <p:nvSpPr>
            <p:cNvPr id="56" name="Rektangel med rundade hörn 7"/>
            <p:cNvSpPr/>
            <p:nvPr/>
          </p:nvSpPr>
          <p:spPr>
            <a:xfrm>
              <a:off x="792000" y="1222200"/>
              <a:ext cx="977760" cy="4210200"/>
            </a:xfrm>
            <a:custGeom>
              <a:avLst/>
              <a:gdLst>
                <a:gd name="textAreaLeft" fmla="*/ 47520 w 977760"/>
                <a:gd name="textAreaRight" fmla="*/ 930240 w 977760"/>
                <a:gd name="textAreaTop" fmla="*/ 47520 h 4210200"/>
                <a:gd name="textAreaBottom" fmla="*/ 4162680 h 4210200"/>
              </a:gdLst>
              <a:ahLst/>
              <a:rect l="textAreaLeft" t="textAreaTop" r="textAreaRight" b="textAreaBottom"/>
              <a:pathLst>
                <a:path w="21600" h="92983">
                  <a:moveTo>
                    <a:pt x="3600" y="0"/>
                  </a:moveTo>
                  <a:arcTo wR="3600" hR="3600" stAng="16200000" swAng="-5400000"/>
                  <a:lnTo>
                    <a:pt x="0" y="89383"/>
                  </a:lnTo>
                  <a:arcTo wR="3600" hR="3600" stAng="10800000" swAng="-5400000"/>
                  <a:lnTo>
                    <a:pt x="18000" y="929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79520"/>
                  <a:tab algn="l" pos="958680"/>
                  <a:tab algn="l" pos="1438200"/>
                  <a:tab algn="l" pos="1917720"/>
                  <a:tab algn="l" pos="2397240"/>
                  <a:tab algn="l" pos="2876400"/>
                  <a:tab algn="l" pos="3355920"/>
                  <a:tab algn="l" pos="3835440"/>
                  <a:tab algn="l" pos="4314960"/>
                  <a:tab algn="l" pos="4794120"/>
                  <a:tab algn="l" pos="5273640"/>
                  <a:tab algn="l" pos="5753160"/>
                  <a:tab algn="l" pos="6232680"/>
                  <a:tab algn="l" pos="6711840"/>
                  <a:tab algn="l" pos="7191360"/>
                  <a:tab algn="l" pos="7670880"/>
                  <a:tab algn="l" pos="8150400"/>
                  <a:tab algn="l" pos="8629560"/>
                  <a:tab algn="l" pos="9109080"/>
                  <a:tab algn="l" pos="9588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ktangel 9"/>
            <p:cNvSpPr/>
            <p:nvPr/>
          </p:nvSpPr>
          <p:spPr>
            <a:xfrm>
              <a:off x="1420560" y="1222200"/>
              <a:ext cx="7723440" cy="421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79520"/>
                  <a:tab algn="l" pos="958680"/>
                  <a:tab algn="l" pos="1438200"/>
                  <a:tab algn="l" pos="1917720"/>
                  <a:tab algn="l" pos="2397240"/>
                  <a:tab algn="l" pos="2876400"/>
                  <a:tab algn="l" pos="3355920"/>
                  <a:tab algn="l" pos="3835440"/>
                  <a:tab algn="l" pos="4314960"/>
                  <a:tab algn="l" pos="4794120"/>
                  <a:tab algn="l" pos="5273640"/>
                  <a:tab algn="l" pos="5753160"/>
                  <a:tab algn="l" pos="6232680"/>
                  <a:tab algn="l" pos="6711840"/>
                  <a:tab algn="l" pos="7191360"/>
                  <a:tab algn="l" pos="7670880"/>
                  <a:tab algn="l" pos="8150400"/>
                  <a:tab algn="l" pos="8629560"/>
                  <a:tab algn="l" pos="9109080"/>
                  <a:tab algn="l" pos="9588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Bildobjekt 5" descr="Miljömålsfigurer.jpg"/>
          <p:cNvPicPr/>
          <p:nvPr/>
        </p:nvPicPr>
        <p:blipFill>
          <a:blip r:embed="rId1"/>
          <a:stretch/>
        </p:blipFill>
        <p:spPr>
          <a:xfrm>
            <a:off x="1052640" y="1459080"/>
            <a:ext cx="349200" cy="3749400"/>
          </a:xfrm>
          <a:prstGeom prst="rect">
            <a:avLst/>
          </a:prstGeom>
          <a:ln w="0">
            <a:noFill/>
          </a:ln>
        </p:spPr>
      </p:pic>
      <p:sp>
        <p:nvSpPr>
          <p:cNvPr id="59" name="textruta 11"/>
          <p:cNvSpPr/>
          <p:nvPr/>
        </p:nvSpPr>
        <p:spPr>
          <a:xfrm>
            <a:off x="792000" y="608040"/>
            <a:ext cx="68439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ruta 12"/>
          <p:cNvSpPr/>
          <p:nvPr/>
        </p:nvSpPr>
        <p:spPr>
          <a:xfrm>
            <a:off x="1550880" y="1353960"/>
            <a:ext cx="4130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85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gränsad klimatpåverk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85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isk lu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85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ra naturlig försu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85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iftfri milj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85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yddande ozonski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85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äker strålmilj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85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gen övergöd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85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ande sjöar och vattend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ruta 13"/>
          <p:cNvSpPr/>
          <p:nvPr/>
        </p:nvSpPr>
        <p:spPr>
          <a:xfrm>
            <a:off x="5997600" y="1370160"/>
            <a:ext cx="2671560" cy="36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549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undvatten av god kvalit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749"/>
              </a:lnSpc>
              <a:spcBef>
                <a:spcPts val="437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v i balans samt levande kust och skärgå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36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llrande våtma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36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ande sko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36"/>
              </a:lnSpc>
              <a:spcBef>
                <a:spcPts val="349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t rikt odlingslandsk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36"/>
              </a:lnSpc>
              <a:spcBef>
                <a:spcPts val="264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slagen fjällmiljö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36"/>
              </a:lnSpc>
              <a:spcBef>
                <a:spcPts val="524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d bebyggd milj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336"/>
              </a:lnSpc>
              <a:spcBef>
                <a:spcPts val="349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t rikt växt- och djurl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ildobjekt 14" descr="Miljömålsfigurer2.jpg"/>
          <p:cNvPicPr/>
          <p:nvPr/>
        </p:nvPicPr>
        <p:blipFill>
          <a:blip r:embed="rId2"/>
          <a:stretch/>
        </p:blipFill>
        <p:spPr>
          <a:xfrm>
            <a:off x="5505480" y="1459080"/>
            <a:ext cx="349200" cy="3749400"/>
          </a:xfrm>
          <a:prstGeom prst="rect">
            <a:avLst/>
          </a:prstGeom>
          <a:ln w="0">
            <a:noFill/>
          </a:ln>
        </p:spPr>
      </p:pic>
      <p:sp>
        <p:nvSpPr>
          <p:cNvPr id="63" name="Rektangel 15"/>
          <p:cNvSpPr/>
          <p:nvPr/>
        </p:nvSpPr>
        <p:spPr>
          <a:xfrm>
            <a:off x="6861600" y="5541840"/>
            <a:ext cx="1300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LLUSTRATIONER: TOBIAS FLYG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6206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jömålen grunden för regeringens miljöpoli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72388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egränsad klimatpåverkan</a:t>
            </a:r>
            <a:br>
              <a:rPr sz="32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alten av växthusgaser i atmosfären ska stabiliseras på en nivå som innebär att människans påverkan på klimatsystemet inte blir farlig.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6920" y="2924280"/>
            <a:ext cx="72392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20 ska utsläppen vara 25 % lägre jämfört med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30 en fordonsflotta oberoende av fossil en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50 nettoutsläpp av växthusgaser ska vara n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4437000"/>
            <a:ext cx="655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4000" y="1270080"/>
            <a:ext cx="7635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Koldioxidutsläpp från transporterna i Sverige (miljoner ton)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238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9120" y="1019160"/>
            <a:ext cx="8647200" cy="4819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16720" y="59500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Källa Trafikanal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6769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ersonbilar dominerar, tunga fordon står för ökningen 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i miljoner ton)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6093000"/>
            <a:ext cx="22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900" spc="-1" strike="noStrike">
                <a:solidFill>
                  <a:srgbClr val="000000"/>
                </a:solidFill>
                <a:latin typeface="Arial"/>
              </a:rPr>
              <a:t>Källa: </a:t>
            </a:r>
            <a:r>
              <a:rPr b="0" lang="sv-SE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Nationella </a:t>
            </a:r>
            <a:r>
              <a:rPr b="0" lang="sv-SE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utsläppsdatabas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238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187280" y="1268280"/>
            <a:ext cx="6553440" cy="41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6920" y="1196640"/>
            <a:ext cx="6697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Frisk luft </a:t>
            </a:r>
            <a:br>
              <a:rPr sz="2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uften ska vara så ren att människors hälsa samt djur, växter och kulturvärden inte skadas.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3068640"/>
            <a:ext cx="7632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artiklar, PM</a:t>
            </a:r>
            <a:r>
              <a:rPr b="0" lang="sv-SE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och PM</a:t>
            </a:r>
            <a:r>
              <a:rPr b="0" lang="sv-SE" sz="2000" spc="-1" strike="noStrike" baseline="-25000">
                <a:solidFill>
                  <a:srgbClr val="000000"/>
                </a:solidFill>
                <a:latin typeface="Arial"/>
              </a:rPr>
              <a:t>2,5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års- och dygnsvä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Kvävedioxid, års- och timvä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arknära ozon, människor och grödor, tim- och säsongsvä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95640" y="98100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907920"/>
            <a:ext cx="40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smo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inversion"/>
          <p:cNvPicPr/>
          <p:nvPr/>
        </p:nvPicPr>
        <p:blipFill>
          <a:blip r:embed="rId2"/>
          <a:stretch/>
        </p:blipFill>
        <p:spPr>
          <a:xfrm>
            <a:off x="0" y="310500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234936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ångtidsexponering ökar både sjuklighet och död på lång si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ödlighet och sjuklighet ökar dagar med höga nivå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ngsjukdomar o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järt-kärlsjukdo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Årligen miljontals dödsfall globalt, uppskattningsvis cirka 5000 i Sverige, 900 i Västra Göt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826920" y="341280"/>
            <a:ext cx="763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uftföroreningar och häl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7640" y="549000"/>
            <a:ext cx="5658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arknära ozon och grödor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27280" y="4723920"/>
            <a:ext cx="3743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Arial"/>
              </a:rPr>
              <a:t>Käll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Arial"/>
              </a:rPr>
              <a:t>Ozon pollution: A hidden threat to food security</a:t>
            </a:r>
            <a:r>
              <a:rPr b="0" lang="sv-SE" sz="1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Report prepared by the ICP Vegetation, September,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Gina Mills and Harry Harmens (Edito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82720" y="1413000"/>
            <a:ext cx="3035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11:58:59Z</dcterms:created>
  <dc:creator>Johanna Severinsson</dc:creator>
  <dc:description/>
  <dc:language>en-US</dc:language>
  <cp:lastModifiedBy>840225-002</cp:lastModifiedBy>
  <dcterms:modified xsi:type="dcterms:W3CDTF">2012-03-16T15:45:42Z</dcterms:modified>
  <cp:revision>271</cp:revision>
  <dc:subject/>
  <dc:title>Bil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skrivning">
    <vt:lpwstr/>
  </property>
  <property fmtid="{D5CDD505-2E9C-101B-9397-08002B2CF9AE}" pid="3" name="Författare">
    <vt:lpwstr/>
  </property>
  <property fmtid="{D5CDD505-2E9C-101B-9397-08002B2CF9AE}" pid="4" name="Löpnummer">
    <vt:lpwstr/>
  </property>
  <property fmtid="{D5CDD505-2E9C-101B-9397-08002B2CF9AE}" pid="5" name="Serienummer">
    <vt:lpwstr/>
  </property>
  <property fmtid="{D5CDD505-2E9C-101B-9397-08002B2CF9AE}" pid="6" name="Verksamhet">
    <vt:lpwstr/>
  </property>
  <property fmtid="{D5CDD505-2E9C-101B-9397-08002B2CF9AE}" pid="7" name="display_urn:schemas-microsoft-com:office:office#Author">
    <vt:lpwstr>Mattsson Jens</vt:lpwstr>
  </property>
  <property fmtid="{D5CDD505-2E9C-101B-9397-08002B2CF9AE}" pid="8" name="display_urn:schemas-microsoft-com:office:office#Editor">
    <vt:lpwstr>Mattsson Jens</vt:lpwstr>
  </property>
</Properties>
</file>