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4.jpeg" ContentType="image/jpeg"/>
  <Override PartName="/ppt/media/image10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19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21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4ABA-5424-422F-88E8-6FB0C711DAE3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000000"/>
                </a:solidFill>
                <a:latin typeface="Times New Roman"/>
              </a:rPr>
              <a:t>Emissions from air travel will exceed those from car travel within 1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200" spc="-1" strike="noStrike">
                <a:solidFill>
                  <a:srgbClr val="000000"/>
                </a:solidFill>
                <a:latin typeface="Times New Roman"/>
              </a:rPr>
              <a:t>Red sectors do not pay any CO2-tax at all and no VAT. Yellow pay 80% less CO2-tax than blue se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8697-4670-4D96-91C9-80E7DA4566CF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BB6E-05D8-4BAD-8E70-1C93409B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9F7-C877-4A38-A107-6DC2C2E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13D-34CE-414C-B2B4-E1A2D743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C63-37FE-47CC-A8ED-D158FC5F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DF6-200F-4C4F-BDE9-AABA8244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8C0-1E4D-4756-8215-36B29927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BB67-21F8-47F8-9ECB-FB774B6A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1091-3AA3-4C72-810E-4A298B65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9C15-B69E-4952-8268-CCB0C976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2571-4F11-47AC-A682-FA4B4923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A56E-0AE2-40F2-94EB-97C0CC55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EE09-35D5-4D2A-9C16-D2BA2DBA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97DD-88C5-42D3-8176-2F88DC2C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5F2C-B4BC-4332-B25E-CFDD9B91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0543-CBB7-45B7-B24F-FD1A7E4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8824-20B7-4D2C-B36E-041CB628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BE3C-0602-4780-89BB-0FA9A004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E6F-DD79-4BE8-AEA3-B3AD9077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3031-A7DB-441F-9A3C-08E805D6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BA843-410E-44D3-A4E8-90E7960E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259-D56E-42A4-8229-FD167C46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4A7C-4CA8-4442-BAA4-2B637DA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EC2E-26C6-47C0-97FE-D54593F3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6F67-20D1-4008-9F28-4D30F76F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D34D-B42E-4D5A-8986-E15F7D43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074B-BDA5-4F01-A5BD-4C15525F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953E-5CB3-45DE-8292-C3E3E379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04A7-6DDC-48E3-80C6-D5A01D3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AC628-AB38-46EE-A7DF-A5E6467F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39B5-C6C1-4CD2-91F1-22FAE30E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C2F74-09C1-408E-851F-E54DDAA3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F3E-B5B8-481A-BC19-8D0244A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845C-51AE-4E54-B89B-139966FC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176A4-05C5-478E-9B9B-6208FC58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4C58-3906-4ADE-A0BE-D059B533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0D45B-042C-4B82-8C5F-A87CDF1D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E29CB-EBCE-48B1-AD04-F0EDAB53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77AFD-D658-4768-BE63-8241AFFE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28872-ECA5-4E10-B76E-91C81416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FBA74-1B54-4AD4-B33A-EF055D9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21E5-6B51-4FAF-B179-6FFA5A7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2B8B-850D-4866-B93E-DB86019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A2E-A6EE-4227-A6A1-ED3AB6B9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B07F-0CC5-48ED-93B2-74620B3D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4F41D-A038-41B5-977C-F5DE9169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7431-1905-4D79-8790-9116A06C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917B4-2D01-4F48-95BE-074B223D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7BB9-DF18-417E-BF62-E8A53637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29A2C-E663-4C37-82BB-71D30FAB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D3391-54BF-4BA3-ACE8-2CC851BB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0C8C-DBEA-4F39-B3D4-8A373F7F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925E-EA4F-4983-B94D-14CA6940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0A5C9-BF79-4329-A575-AA7DBCAE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488-166B-4367-B716-50524A9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AB1FB-2453-480A-AB3D-B06AFD64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4DBAB-EB18-4867-864F-386AD074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7DC99-26C9-4BB1-A242-BAAB22F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6101-155B-4951-869C-94C54341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583B9-021F-41D7-8470-AD72FF9E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E45-6B52-4754-8D2D-056BCFB3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130120" y="421920"/>
            <a:ext cx="8002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130120" y="4401720"/>
            <a:ext cx="8026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42760" y="206496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13012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42760" y="4401720"/>
            <a:ext cx="39164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4380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7557480" y="206496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13012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84380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7557480" y="4401720"/>
            <a:ext cx="2584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2360" y="7164360"/>
            <a:ext cx="10922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Verdana"/>
              </a:rPr>
              <a:t>2009-11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130480" y="7164360"/>
            <a:ext cx="462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918720" y="7164360"/>
            <a:ext cx="527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1F11-7297-4EA7-A6D2-0DF4C24E7732}" type="slidenum">
              <a:rPr b="0" lang="sv-S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Bildobjekt 9" descr="kth_eng_rgb.jpg"/>
          <p:cNvPicPr/>
          <p:nvPr/>
        </p:nvPicPr>
        <p:blipFill>
          <a:blip r:embed="rId2"/>
          <a:stretch/>
        </p:blipFill>
        <p:spPr>
          <a:xfrm>
            <a:off x="487440" y="2352600"/>
            <a:ext cx="1297080" cy="16416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2130480" y="7164360"/>
            <a:ext cx="462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43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ildobjekt 9" descr="kth_eng_rgb.jpg"/>
          <p:cNvPicPr/>
          <p:nvPr/>
        </p:nvPicPr>
        <p:blipFill>
          <a:blip r:embed="rId2"/>
          <a:stretch/>
        </p:blipFill>
        <p:spPr>
          <a:xfrm>
            <a:off x="487440" y="2352600"/>
            <a:ext cx="1297080" cy="164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121" name="Straight Connector 17"/>
          <p:cNvSpPr/>
          <p:nvPr/>
        </p:nvSpPr>
        <p:spPr>
          <a:xfrm>
            <a:off x="343080" y="7091280"/>
            <a:ext cx="10042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252360" y="7164360"/>
            <a:ext cx="10922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Verdana"/>
              </a:rPr>
              <a:t>2009-11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2130480" y="7164360"/>
            <a:ext cx="462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9918720" y="7164360"/>
            <a:ext cx="527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6371-AB59-4F5E-9806-F4C644878BE9}" type="slidenum">
              <a:rPr b="0" lang="sv-S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164" name="Straight Connector 17"/>
          <p:cNvSpPr/>
          <p:nvPr/>
        </p:nvSpPr>
        <p:spPr>
          <a:xfrm>
            <a:off x="343080" y="7091280"/>
            <a:ext cx="10042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252360" y="7164360"/>
            <a:ext cx="10922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Verdana"/>
              </a:rPr>
              <a:t>2009-11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130480" y="7164360"/>
            <a:ext cx="462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9918720" y="7164360"/>
            <a:ext cx="527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4A00-658E-4D2D-8228-2333DE17BD2B}" type="slidenum">
              <a:rPr b="0" lang="sv-S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207" name="Straight Connector 17"/>
          <p:cNvSpPr/>
          <p:nvPr/>
        </p:nvSpPr>
        <p:spPr>
          <a:xfrm>
            <a:off x="343080" y="7091280"/>
            <a:ext cx="694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252360" y="7164360"/>
            <a:ext cx="10922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Verdana"/>
              </a:rPr>
              <a:t>2009-11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2130480" y="7164360"/>
            <a:ext cx="462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9918720" y="7164360"/>
            <a:ext cx="527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F581-5BC3-46E5-A932-DC1981C1F74E}" type="slidenum">
              <a:rPr b="0" lang="sv-S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250" name="Straight Connector 17"/>
          <p:cNvSpPr/>
          <p:nvPr/>
        </p:nvSpPr>
        <p:spPr>
          <a:xfrm>
            <a:off x="343080" y="7091280"/>
            <a:ext cx="100422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252360" y="7164360"/>
            <a:ext cx="10922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Verdana"/>
              </a:rPr>
              <a:t>2009-11-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2130480" y="7164360"/>
            <a:ext cx="462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9918720" y="7164360"/>
            <a:ext cx="5270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1633-9CA2-423B-AE28-926E9723C107}" type="slidenum">
              <a:rPr b="0" lang="sv-SE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6"/>
          </p:nvPr>
        </p:nvSpPr>
        <p:spPr>
          <a:xfrm>
            <a:off x="2130480" y="7164360"/>
            <a:ext cx="462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Bildobjekt 9" descr="kth_eng_rgb.jpg"/>
          <p:cNvPicPr/>
          <p:nvPr/>
        </p:nvPicPr>
        <p:blipFill>
          <a:blip r:embed="rId2"/>
          <a:stretch/>
        </p:blipFill>
        <p:spPr>
          <a:xfrm>
            <a:off x="344520" y="351000"/>
            <a:ext cx="847800" cy="10713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130120" y="206496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04720" indent="-209520">
              <a:spcBef>
                <a:spcPts val="550"/>
              </a:spcBef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260640">
              <a:spcBef>
                <a:spcPts val="550"/>
              </a:spcBef>
              <a:buClr>
                <a:srgbClr val="808080"/>
              </a:buClr>
              <a:buSzPct val="90000"/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30320" indent="-26208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281240" indent="-260640">
              <a:spcBef>
                <a:spcPts val="550"/>
              </a:spcBef>
              <a:buClr>
                <a:srgbClr val="80808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281240" indent="-260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7"/>
          </p:nvPr>
        </p:nvSpPr>
        <p:spPr>
          <a:xfrm>
            <a:off x="2130480" y="7164360"/>
            <a:ext cx="462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onas.akerman@abe.kth.se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609640" y="395280"/>
            <a:ext cx="7342200" cy="76824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br>
              <a:rPr sz="3200"/>
            </a:br>
            <a:r>
              <a:rPr b="0" lang="en-GB" sz="2800" spc="-1" strike="noStrike">
                <a:solidFill>
                  <a:srgbClr val="808080"/>
                </a:solidFill>
                <a:latin typeface="Verdana"/>
              </a:rPr>
              <a:t>Minus en promille – Infrastrukturinvesteringar i relation till klimatmål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560" y="190764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048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0" i="1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nas Åkerman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vdelningen för miljöstrategisk analys – fms /K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-post: </a:t>
            </a:r>
            <a:r>
              <a:rPr b="0" lang="de-DE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jonas.akerman@abe.kth.s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l: 08-790 73 0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0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0" name="il_fi" descr="TGV-560x370"/>
          <p:cNvPicPr/>
          <p:nvPr/>
        </p:nvPicPr>
        <p:blipFill>
          <a:blip r:embed="rId2"/>
          <a:stretch/>
        </p:blipFill>
        <p:spPr>
          <a:xfrm>
            <a:off x="5345280" y="3274920"/>
            <a:ext cx="5011560" cy="3313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" descr=""/>
          <p:cNvPicPr/>
          <p:nvPr/>
        </p:nvPicPr>
        <p:blipFill>
          <a:blip r:embed="rId3"/>
          <a:stretch/>
        </p:blipFill>
        <p:spPr>
          <a:xfrm>
            <a:off x="233280" y="2050920"/>
            <a:ext cx="4824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62000" y="250560"/>
            <a:ext cx="8002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Livscykelutsläpp av CO</a:t>
            </a:r>
            <a:r>
              <a:rPr b="0" lang="sv-FI" sz="3200" spc="-1" strike="noStrike" baseline="-25000">
                <a:solidFill>
                  <a:srgbClr val="808080"/>
                </a:solidFill>
                <a:latin typeface="Verdana"/>
              </a:rPr>
              <a:t>2</a:t>
            </a: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 från tre biltyper ca 2020 </a:t>
            </a:r>
            <a:r>
              <a:rPr b="0" lang="sv-FI" sz="1800" spc="-1" strike="noStrike">
                <a:solidFill>
                  <a:srgbClr val="808080"/>
                </a:solidFill>
                <a:latin typeface="Verdana"/>
              </a:rPr>
              <a:t>(vid 160 g CO2/kWh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954000" y="6948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000" spc="-1" strike="noStrike">
                <a:solidFill>
                  <a:srgbClr val="000000"/>
                </a:solidFill>
                <a:latin typeface="Times New Roman"/>
              </a:rPr>
              <a:t>Källa:</a:t>
            </a:r>
            <a:r>
              <a:rPr b="0" lang="sv-FI" sz="2000" spc="-1" strike="noStrike">
                <a:solidFill>
                  <a:srgbClr val="000000"/>
                </a:solidFill>
                <a:latin typeface="Times New Roman"/>
              </a:rPr>
              <a:t> Preliminära data från kommande rapport till Riksrevis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1673280" y="1619280"/>
            <a:ext cx="76327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62000" y="250560"/>
            <a:ext cx="8002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Livscykelutsläpp av CO</a:t>
            </a:r>
            <a:r>
              <a:rPr b="0" lang="sv-FI" sz="3200" spc="-1" strike="noStrike" baseline="-25000">
                <a:solidFill>
                  <a:srgbClr val="808080"/>
                </a:solidFill>
                <a:latin typeface="Verdana"/>
              </a:rPr>
              <a:t>2</a:t>
            </a: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 från tre biltyper ca 2020 </a:t>
            </a:r>
            <a:r>
              <a:rPr b="0" lang="sv-FI" sz="1800" spc="-1" strike="noStrike">
                <a:solidFill>
                  <a:srgbClr val="808080"/>
                </a:solidFill>
                <a:latin typeface="Verdana"/>
              </a:rPr>
              <a:t>(vid 600 g CO2/kWh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954000" y="6948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000" spc="-1" strike="noStrike">
                <a:solidFill>
                  <a:srgbClr val="000000"/>
                </a:solidFill>
                <a:latin typeface="Times New Roman"/>
              </a:rPr>
              <a:t>Källa:</a:t>
            </a:r>
            <a:r>
              <a:rPr b="0" lang="sv-FI" sz="2000" spc="-1" strike="noStrike">
                <a:solidFill>
                  <a:srgbClr val="000000"/>
                </a:solidFill>
                <a:latin typeface="Times New Roman"/>
              </a:rPr>
              <a:t> Preliminära data från kommande rapport till Riksrevis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601640" y="1619280"/>
            <a:ext cx="76327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01640" y="250560"/>
            <a:ext cx="8785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Prognoser för andel laddhybrider och batterielbilar i </a:t>
            </a:r>
            <a:r>
              <a:rPr b="1" lang="sv-FI" sz="3200" spc="-1" strike="noStrike">
                <a:solidFill>
                  <a:srgbClr val="808080"/>
                </a:solidFill>
                <a:latin typeface="Verdana"/>
              </a:rPr>
              <a:t>nybilsförsäljningen</a:t>
            </a: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 2020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1817640" y="1835280"/>
            <a:ext cx="777708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Slutsatser om elfordon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104920" y="2556000"/>
            <a:ext cx="7561440" cy="4473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04840" indent="-204840">
              <a:spcBef>
                <a:spcPts val="550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Elfordon är </a:t>
            </a:r>
            <a:r>
              <a:rPr b="1" lang="sv-FI" sz="2200" spc="-1" strike="noStrike">
                <a:solidFill>
                  <a:srgbClr val="000000"/>
                </a:solidFill>
                <a:latin typeface="Verdana"/>
              </a:rPr>
              <a:t>en av flera </a:t>
            </a: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viktiga komponenter för att nå klimatmål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04840" indent="-204840">
              <a:spcBef>
                <a:spcPts val="550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Enligt internationella studier kan elbilar år 2030 utgöra ca 15-35% av bilflottan. Detta skulle då ge </a:t>
            </a:r>
            <a:r>
              <a:rPr b="1" lang="sv-FI" sz="2200" spc="-1" strike="noStrike">
                <a:solidFill>
                  <a:srgbClr val="000000"/>
                </a:solidFill>
                <a:latin typeface="Verdana"/>
              </a:rPr>
              <a:t>8-18% minskning </a:t>
            </a: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av bilflottans utsläpp av CO</a:t>
            </a:r>
            <a:r>
              <a:rPr b="0" lang="sv-FI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78000" y="-360"/>
            <a:ext cx="8328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Verdana"/>
              </a:rPr>
              <a:t>Fallstudie: Indirekta utsläpp för vägtunneln Norra Länken i Stockholm</a:t>
            </a:r>
            <a:r>
              <a:rPr b="0" lang="sv-SE" sz="2400" spc="-1" strike="noStrike">
                <a:solidFill>
                  <a:srgbClr val="808080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sv-SE" sz="1800" spc="-1" strike="noStrike">
                <a:solidFill>
                  <a:srgbClr val="808080"/>
                </a:solidFill>
                <a:latin typeface="Verdana"/>
              </a:rPr>
              <a:t>7,5 km bergtunnel och 2,5 km betongtunnel</a:t>
            </a:r>
            <a:br>
              <a:rPr sz="1800"/>
            </a:br>
            <a:r>
              <a:rPr b="0" lang="sv-SE" sz="1800" spc="-1" strike="noStrike">
                <a:solidFill>
                  <a:srgbClr val="808080"/>
                </a:solidFill>
                <a:latin typeface="Verdana"/>
              </a:rPr>
              <a:t>Kostnad: ca 11 miljarder kr</a:t>
            </a:r>
            <a:br>
              <a:rPr sz="2400"/>
            </a:br>
            <a:br>
              <a:rPr sz="2400"/>
            </a:br>
            <a:r>
              <a:rPr b="0" i="1" lang="en-GB" sz="24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2130120" y="6539040"/>
            <a:ext cx="8026200" cy="48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"/>
          <p:cNvPicPr/>
          <p:nvPr/>
        </p:nvPicPr>
        <p:blipFill>
          <a:blip r:embed="rId2"/>
          <a:srcRect l="37116" t="34686" r="33604" b="16313"/>
          <a:stretch/>
        </p:blipFill>
        <p:spPr>
          <a:xfrm>
            <a:off x="2825640" y="2916360"/>
            <a:ext cx="4248360" cy="38210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4"/>
          <p:cNvSpPr/>
          <p:nvPr/>
        </p:nvSpPr>
        <p:spPr>
          <a:xfrm>
            <a:off x="593640" y="714384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Käll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iliutenko, S., Åkerman, J., Björklund, A., 2012. Energy Use and Greenhouse Gas Emissions during the Life Cycle Stages of a Road Tunnel – the Swedish Case Norra Länken. EJTIR, Issue 12(1), 2012, pp. 39-6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Resultat Norra länken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557" name="Picture 6" descr=""/>
          <p:cNvPicPr/>
          <p:nvPr/>
        </p:nvPicPr>
        <p:blipFill>
          <a:blip r:embed="rId1"/>
          <a:stretch/>
        </p:blipFill>
        <p:spPr>
          <a:xfrm>
            <a:off x="809640" y="1908000"/>
            <a:ext cx="9653400" cy="4896000"/>
          </a:xfrm>
          <a:prstGeom prst="rect">
            <a:avLst/>
          </a:prstGeom>
          <a:ln w="0">
            <a:noFill/>
          </a:ln>
        </p:spPr>
      </p:pic>
      <p:sp>
        <p:nvSpPr>
          <p:cNvPr id="558" name="Oval 3"/>
          <p:cNvSpPr/>
          <p:nvPr/>
        </p:nvSpPr>
        <p:spPr>
          <a:xfrm>
            <a:off x="5345280" y="4356000"/>
            <a:ext cx="1009440" cy="503280"/>
          </a:xfrm>
          <a:prstGeom prst="ellipse">
            <a:avLst/>
          </a:prstGeom>
          <a:solidFill>
            <a:srgbClr val="1c54a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4"/>
          <p:cNvSpPr/>
          <p:nvPr/>
        </p:nvSpPr>
        <p:spPr>
          <a:xfrm>
            <a:off x="5273640" y="5940360"/>
            <a:ext cx="1008000" cy="503280"/>
          </a:xfrm>
          <a:prstGeom prst="ellipse">
            <a:avLst/>
          </a:prstGeom>
          <a:solidFill>
            <a:srgbClr val="1c54a6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3278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Stor känslighet med avseende på antagen CO</a:t>
            </a:r>
            <a:r>
              <a:rPr b="0" lang="sv-FI" sz="3200" spc="-1" strike="noStrike" baseline="-25000">
                <a:solidFill>
                  <a:srgbClr val="808080"/>
                </a:solidFill>
                <a:latin typeface="Verdana"/>
              </a:rPr>
              <a:t>2</a:t>
            </a: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-intensitet för elproduktion: 0,25 -1,8 milj ton CO</a:t>
            </a:r>
            <a:r>
              <a:rPr b="0" lang="sv-FI" sz="3200" spc="-1" strike="noStrike" baseline="-25000">
                <a:solidFill>
                  <a:srgbClr val="80808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610000" y="2170080"/>
            <a:ext cx="67482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Slutsatser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746000" y="1547280"/>
            <a:ext cx="8026200" cy="4473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86000"/>
          </a:bodyPr>
          <a:p>
            <a:pPr marL="176040" indent="-17604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Sannolikt leder Nationella infrastrukturplanen till ökade utsläpp ur ett livscykelperspekti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Om mer realistiska antaganden görs om elbilar och biodrivmedel, ser man att </a:t>
            </a:r>
            <a:r>
              <a:rPr b="1" lang="sv-FI" sz="2000" spc="-1" strike="noStrike">
                <a:solidFill>
                  <a:srgbClr val="000000"/>
                </a:solidFill>
                <a:latin typeface="Verdana"/>
              </a:rPr>
              <a:t>planen skulle ha behövt ge ett betydande bidrag till minskade utsläpp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, speciellt på lång sikt (strukturerande effekt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Denna slutsats förstärks av att snabbt ökande utsläpp från internationella transporter kommer </a:t>
            </a:r>
            <a:r>
              <a:rPr b="1" lang="sv-FI" sz="2000" spc="-1" strike="noStrike">
                <a:solidFill>
                  <a:srgbClr val="000000"/>
                </a:solidFill>
                <a:latin typeface="Verdana"/>
              </a:rPr>
              <a:t>krympa utsläppsutrymmet för inrikes transporter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Infrastrukturens kapacitet behöver anpassas till de trafikvolymer för olika transportslag som är förenliga med klimatmålen 2050. </a:t>
            </a:r>
            <a:r>
              <a:rPr b="1" lang="sv-FI" sz="2000" spc="-1" strike="noStrike">
                <a:solidFill>
                  <a:srgbClr val="000000"/>
                </a:solidFill>
                <a:latin typeface="Verdana"/>
              </a:rPr>
              <a:t>Scenariostudier behöver använ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Klimatmålen kräver sannolikt att investeringar i infrastruktur fokuseras starkt mot </a:t>
            </a:r>
            <a:r>
              <a:rPr b="1" lang="sv-FI" sz="2000" spc="-1" strike="noStrike">
                <a:solidFill>
                  <a:srgbClr val="000000"/>
                </a:solidFill>
                <a:latin typeface="Verdana"/>
              </a:rPr>
              <a:t>IT-lösningar, cykel, kollektivtrafik och intermodala godstransporter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76040" indent="-17604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437920" y="684000"/>
            <a:ext cx="7342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SE" sz="2800" spc="-1" strike="noStrike">
                <a:solidFill>
                  <a:srgbClr val="808080"/>
                </a:solidFill>
                <a:latin typeface="Verdana"/>
              </a:rPr>
              <a:t>Svenskars resande i 5 scenarier för 2050, som alla når -85% växthusgaser</a:t>
            </a:r>
            <a:br>
              <a:rPr sz="2800"/>
            </a:b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100720" cy="48765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7620120" cy="5032440"/>
          </a:xfrm>
          <a:prstGeom prst="rect">
            <a:avLst/>
          </a:prstGeom>
          <a:ln w="0">
            <a:noFill/>
          </a:ln>
        </p:spPr>
      </p:pic>
      <p:sp>
        <p:nvSpPr>
          <p:cNvPr id="567" name="TextBox 4"/>
          <p:cNvSpPr/>
          <p:nvPr/>
        </p:nvSpPr>
        <p:spPr>
          <a:xfrm>
            <a:off x="954000" y="6948360"/>
            <a:ext cx="820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1400" spc="-1" strike="noStrike">
                <a:solidFill>
                  <a:srgbClr val="000000"/>
                </a:solidFill>
                <a:latin typeface="Verdana"/>
              </a:rPr>
              <a:t>Källa:</a:t>
            </a:r>
            <a:r>
              <a:rPr b="0" lang="sv-FI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SE" sz="1400" spc="-1" strike="noStrike">
                <a:solidFill>
                  <a:srgbClr val="000000"/>
                </a:solidFill>
                <a:latin typeface="Verdana"/>
              </a:rPr>
              <a:t>Naturvårdsverket/KTH (2007), Tvågradersmålet i sikte? - Scenarier för det svenska energi- och transportsystemet till år 2050. Naturvårdsverket rapport 5754.</a:t>
            </a:r>
            <a:r>
              <a:rPr b="0" lang="sv-FI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traight Connector 6"/>
          <p:cNvSpPr/>
          <p:nvPr/>
        </p:nvSpPr>
        <p:spPr>
          <a:xfrm>
            <a:off x="4336920" y="2700360"/>
            <a:ext cx="0" cy="295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traight Connector 7"/>
          <p:cNvSpPr/>
          <p:nvPr/>
        </p:nvSpPr>
        <p:spPr>
          <a:xfrm>
            <a:off x="3546360" y="2700360"/>
            <a:ext cx="0" cy="2951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104920" y="2555640"/>
            <a:ext cx="8002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Systemperspektiv – Transportsektorns direkta och indirekta utsläpp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130120" y="2064960"/>
            <a:ext cx="802620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Oval 3"/>
          <p:cNvSpPr/>
          <p:nvPr/>
        </p:nvSpPr>
        <p:spPr>
          <a:xfrm>
            <a:off x="3905280" y="2411280"/>
            <a:ext cx="2089080" cy="1944720"/>
          </a:xfrm>
          <a:prstGeom prst="ellipse">
            <a:avLst/>
          </a:prstGeom>
          <a:solidFill>
            <a:srgbClr val="1c54a6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traight Connector 5"/>
          <p:cNvSpPr/>
          <p:nvPr/>
        </p:nvSpPr>
        <p:spPr>
          <a:xfrm>
            <a:off x="3041640" y="2340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4194000" y="3132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Bil, kortvä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7"/>
          <p:cNvSpPr/>
          <p:nvPr/>
        </p:nvSpPr>
        <p:spPr>
          <a:xfrm>
            <a:off x="4194000" y="4859280"/>
            <a:ext cx="792360" cy="792360"/>
          </a:xfrm>
          <a:prstGeom prst="ellipse">
            <a:avLst/>
          </a:prstGeom>
          <a:solidFill>
            <a:srgbClr val="1c54a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4265640" y="4932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Bil, lång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9"/>
          <p:cNvSpPr/>
          <p:nvPr/>
        </p:nvSpPr>
        <p:spPr>
          <a:xfrm>
            <a:off x="5705640" y="4211640"/>
            <a:ext cx="1439640" cy="1440000"/>
          </a:xfrm>
          <a:prstGeom prst="ellipse">
            <a:avLst/>
          </a:prstGeom>
          <a:solidFill>
            <a:srgbClr val="1c54a6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5994360" y="478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Lastb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12"/>
          <p:cNvSpPr/>
          <p:nvPr/>
        </p:nvSpPr>
        <p:spPr>
          <a:xfrm>
            <a:off x="3689280" y="5796000"/>
            <a:ext cx="576360" cy="576360"/>
          </a:xfrm>
          <a:prstGeom prst="ellipse">
            <a:avLst/>
          </a:prstGeom>
          <a:solidFill>
            <a:srgbClr val="1c54a6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3402000" y="6516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Flyg, inri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14"/>
          <p:cNvSpPr/>
          <p:nvPr/>
        </p:nvSpPr>
        <p:spPr>
          <a:xfrm>
            <a:off x="5273640" y="5867280"/>
            <a:ext cx="647640" cy="649440"/>
          </a:xfrm>
          <a:prstGeom prst="ellipse">
            <a:avLst/>
          </a:prstGeom>
          <a:solidFill>
            <a:srgbClr val="1c54a6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15"/>
          <p:cNvSpPr/>
          <p:nvPr/>
        </p:nvSpPr>
        <p:spPr>
          <a:xfrm>
            <a:off x="5129280" y="6659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Övri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16"/>
          <p:cNvSpPr/>
          <p:nvPr/>
        </p:nvSpPr>
        <p:spPr>
          <a:xfrm>
            <a:off x="2825640" y="1258920"/>
            <a:ext cx="431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Inrikes, direkta utsläpp          </a:t>
            </a:r>
            <a:r>
              <a:rPr b="0" i="1" lang="sv-FI" sz="1800" spc="-1" strike="noStrike">
                <a:solidFill>
                  <a:srgbClr val="000000"/>
                </a:solidFill>
                <a:latin typeface="Verdana"/>
              </a:rPr>
              <a:t>(20 miljoner 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traight Connector 20"/>
          <p:cNvSpPr/>
          <p:nvPr/>
        </p:nvSpPr>
        <p:spPr>
          <a:xfrm>
            <a:off x="7434360" y="2266920"/>
            <a:ext cx="71280" cy="453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4"/>
          <p:cNvSpPr/>
          <p:nvPr/>
        </p:nvSpPr>
        <p:spPr>
          <a:xfrm>
            <a:off x="1673280" y="179280"/>
            <a:ext cx="8353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400" spc="-1" strike="noStrike">
                <a:solidFill>
                  <a:srgbClr val="000000"/>
                </a:solidFill>
                <a:latin typeface="Arial"/>
                <a:ea typeface="Arial"/>
              </a:rPr>
              <a:t>Utsläpp av växthusgaser från ”svenska” transporter år 2005 (CO</a:t>
            </a:r>
            <a:r>
              <a:rPr b="1" lang="sv-F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v-FI" sz="2400" spc="-1" strike="noStrike">
                <a:solidFill>
                  <a:srgbClr val="000000"/>
                </a:solidFill>
                <a:latin typeface="Arial"/>
                <a:ea typeface="Arial"/>
              </a:rPr>
              <a:t>-ekvival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130120" y="2066400"/>
            <a:ext cx="8024760" cy="4473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Oval 3"/>
          <p:cNvSpPr/>
          <p:nvPr/>
        </p:nvSpPr>
        <p:spPr>
          <a:xfrm>
            <a:off x="3905280" y="2411280"/>
            <a:ext cx="2089080" cy="1944720"/>
          </a:xfrm>
          <a:prstGeom prst="ellipse">
            <a:avLst/>
          </a:prstGeom>
          <a:solidFill>
            <a:srgbClr val="1c54a6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traight Connector 5"/>
          <p:cNvSpPr/>
          <p:nvPr/>
        </p:nvSpPr>
        <p:spPr>
          <a:xfrm>
            <a:off x="3041640" y="2340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4265640" y="3132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Bil, kortvä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7"/>
          <p:cNvSpPr/>
          <p:nvPr/>
        </p:nvSpPr>
        <p:spPr>
          <a:xfrm>
            <a:off x="4194000" y="4859280"/>
            <a:ext cx="792360" cy="792360"/>
          </a:xfrm>
          <a:prstGeom prst="ellipse">
            <a:avLst/>
          </a:prstGeom>
          <a:solidFill>
            <a:srgbClr val="1c54a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4265640" y="4932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Bil, lång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9"/>
          <p:cNvSpPr/>
          <p:nvPr/>
        </p:nvSpPr>
        <p:spPr>
          <a:xfrm>
            <a:off x="5705640" y="4211640"/>
            <a:ext cx="1439640" cy="1440000"/>
          </a:xfrm>
          <a:prstGeom prst="ellipse">
            <a:avLst/>
          </a:prstGeom>
          <a:solidFill>
            <a:srgbClr val="1c54a6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1"/>
          <p:cNvSpPr/>
          <p:nvPr/>
        </p:nvSpPr>
        <p:spPr>
          <a:xfrm>
            <a:off x="5994360" y="478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Lastb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12"/>
          <p:cNvSpPr/>
          <p:nvPr/>
        </p:nvSpPr>
        <p:spPr>
          <a:xfrm>
            <a:off x="3689280" y="5796000"/>
            <a:ext cx="576360" cy="576360"/>
          </a:xfrm>
          <a:prstGeom prst="ellipse">
            <a:avLst/>
          </a:prstGeom>
          <a:solidFill>
            <a:srgbClr val="1c54a6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3402000" y="6516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Flyg, inri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Oval 14"/>
          <p:cNvSpPr/>
          <p:nvPr/>
        </p:nvSpPr>
        <p:spPr>
          <a:xfrm>
            <a:off x="5273640" y="5867280"/>
            <a:ext cx="647640" cy="649440"/>
          </a:xfrm>
          <a:prstGeom prst="ellipse">
            <a:avLst/>
          </a:prstGeom>
          <a:solidFill>
            <a:srgbClr val="1c54a6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5"/>
          <p:cNvSpPr/>
          <p:nvPr/>
        </p:nvSpPr>
        <p:spPr>
          <a:xfrm>
            <a:off x="5345280" y="6588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Övri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6"/>
          <p:cNvSpPr/>
          <p:nvPr/>
        </p:nvSpPr>
        <p:spPr>
          <a:xfrm>
            <a:off x="3112920" y="1547640"/>
            <a:ext cx="432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nrikes, direkta utsläpp          </a:t>
            </a:r>
            <a:r>
              <a:rPr b="0" i="1" lang="sv-SE" sz="1800" spc="-1" strike="noStrike">
                <a:solidFill>
                  <a:srgbClr val="000000"/>
                </a:solidFill>
                <a:latin typeface="Verdana"/>
              </a:rPr>
              <a:t>(20 miljoner 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Straight Connector 20"/>
          <p:cNvSpPr/>
          <p:nvPr/>
        </p:nvSpPr>
        <p:spPr>
          <a:xfrm>
            <a:off x="7434360" y="2266920"/>
            <a:ext cx="71280" cy="453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7"/>
          <p:cNvSpPr/>
          <p:nvPr/>
        </p:nvSpPr>
        <p:spPr>
          <a:xfrm>
            <a:off x="738360" y="3059280"/>
            <a:ext cx="1655640" cy="1657080"/>
          </a:xfrm>
          <a:prstGeom prst="ellipse">
            <a:avLst/>
          </a:prstGeom>
          <a:solidFill>
            <a:srgbClr val="ff00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18"/>
          <p:cNvSpPr/>
          <p:nvPr/>
        </p:nvSpPr>
        <p:spPr>
          <a:xfrm>
            <a:off x="738360" y="3564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Flyg, internation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19"/>
          <p:cNvSpPr/>
          <p:nvPr/>
        </p:nvSpPr>
        <p:spPr>
          <a:xfrm>
            <a:off x="1096920" y="5219640"/>
            <a:ext cx="865080" cy="863640"/>
          </a:xfrm>
          <a:prstGeom prst="ellipse">
            <a:avLst/>
          </a:prstGeom>
          <a:solidFill>
            <a:srgbClr val="ff0000">
              <a:alpha val="46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21"/>
          <p:cNvSpPr/>
          <p:nvPr/>
        </p:nvSpPr>
        <p:spPr>
          <a:xfrm>
            <a:off x="520560" y="6227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Sjötransport, internation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22"/>
          <p:cNvSpPr/>
          <p:nvPr/>
        </p:nvSpPr>
        <p:spPr>
          <a:xfrm>
            <a:off x="162000" y="1692360"/>
            <a:ext cx="280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Internationellt, direkta utsläpp   </a:t>
            </a:r>
            <a:r>
              <a:rPr b="0" i="1" lang="sv-FI" sz="1800" spc="-1" strike="noStrike">
                <a:solidFill>
                  <a:srgbClr val="000000"/>
                </a:solidFill>
                <a:latin typeface="Verdana"/>
              </a:rPr>
              <a:t>(10.5 miljoner 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24"/>
          <p:cNvSpPr/>
          <p:nvPr/>
        </p:nvSpPr>
        <p:spPr>
          <a:xfrm>
            <a:off x="1962000" y="250920"/>
            <a:ext cx="820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400" spc="-1" strike="noStrike">
                <a:solidFill>
                  <a:srgbClr val="000000"/>
                </a:solidFill>
                <a:latin typeface="Arial"/>
                <a:ea typeface="Arial"/>
              </a:rPr>
              <a:t>Utsläpp av växthusgaser från ”svenska” transporter år 2005 (CO</a:t>
            </a:r>
            <a:r>
              <a:rPr b="1" lang="sv-F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v-FI" sz="2400" spc="-1" strike="noStrike">
                <a:solidFill>
                  <a:srgbClr val="000000"/>
                </a:solidFill>
                <a:latin typeface="Arial"/>
                <a:ea typeface="Arial"/>
              </a:rPr>
              <a:t>-ekvival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22"/>
          <p:cNvSpPr/>
          <p:nvPr/>
        </p:nvSpPr>
        <p:spPr>
          <a:xfrm>
            <a:off x="449280" y="7164360"/>
            <a:ext cx="8137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Källa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Åkerman, J., 2011. Transport systems meeting climate targets – A backcasting approach including international aviation. Doctoral Thesis in Infrastructure. Environmental strategies research – fms. KTH, Stockhol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1566720" y="305928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130120" y="2066400"/>
            <a:ext cx="8024760" cy="4473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88920" y="179280"/>
            <a:ext cx="8002440" cy="126072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Klimatpåverkan från svenska befolkningens bil- och flygresande </a:t>
            </a:r>
            <a:r>
              <a:rPr b="0" lang="sv-FI" sz="2400" spc="-1" strike="noStrike">
                <a:solidFill>
                  <a:srgbClr val="808080"/>
                </a:solidFill>
                <a:latin typeface="Verdana"/>
              </a:rPr>
              <a:t>(GWP-100)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504" name="Picture 5" descr=""/>
          <p:cNvPicPr/>
          <p:nvPr/>
        </p:nvPicPr>
        <p:blipFill>
          <a:blip r:embed="rId1"/>
          <a:stretch/>
        </p:blipFill>
        <p:spPr>
          <a:xfrm>
            <a:off x="1531800" y="1835280"/>
            <a:ext cx="8744040" cy="4681440"/>
          </a:xfrm>
          <a:prstGeom prst="rect">
            <a:avLst/>
          </a:prstGeom>
          <a:ln w="0">
            <a:noFill/>
          </a:ln>
        </p:spPr>
      </p:pic>
      <p:sp>
        <p:nvSpPr>
          <p:cNvPr id="505" name="Straight Connector 4"/>
          <p:cNvSpPr/>
          <p:nvPr/>
        </p:nvSpPr>
        <p:spPr>
          <a:xfrm>
            <a:off x="5129280" y="3348000"/>
            <a:ext cx="0" cy="259236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traight Connector 6"/>
          <p:cNvSpPr/>
          <p:nvPr/>
        </p:nvSpPr>
        <p:spPr>
          <a:xfrm>
            <a:off x="6426360" y="3492360"/>
            <a:ext cx="0" cy="24480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Oval 3"/>
          <p:cNvSpPr/>
          <p:nvPr/>
        </p:nvSpPr>
        <p:spPr>
          <a:xfrm>
            <a:off x="3905280" y="2411280"/>
            <a:ext cx="2089080" cy="1944720"/>
          </a:xfrm>
          <a:prstGeom prst="ellipse">
            <a:avLst/>
          </a:prstGeom>
          <a:solidFill>
            <a:srgbClr val="1c54a6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traight Connector 5"/>
          <p:cNvSpPr/>
          <p:nvPr/>
        </p:nvSpPr>
        <p:spPr>
          <a:xfrm>
            <a:off x="3041640" y="2340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4336920" y="3059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Bil, kortvä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4194000" y="4859280"/>
            <a:ext cx="792360" cy="792360"/>
          </a:xfrm>
          <a:prstGeom prst="ellipse">
            <a:avLst/>
          </a:prstGeom>
          <a:solidFill>
            <a:srgbClr val="1c54a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8"/>
          <p:cNvSpPr/>
          <p:nvPr/>
        </p:nvSpPr>
        <p:spPr>
          <a:xfrm>
            <a:off x="4265640" y="4932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Bil, lång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9"/>
          <p:cNvSpPr/>
          <p:nvPr/>
        </p:nvSpPr>
        <p:spPr>
          <a:xfrm>
            <a:off x="5705640" y="4211640"/>
            <a:ext cx="1439640" cy="1440000"/>
          </a:xfrm>
          <a:prstGeom prst="ellipse">
            <a:avLst/>
          </a:prstGeom>
          <a:solidFill>
            <a:srgbClr val="1c54a6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1"/>
          <p:cNvSpPr/>
          <p:nvPr/>
        </p:nvSpPr>
        <p:spPr>
          <a:xfrm>
            <a:off x="5994360" y="478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Lastb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12"/>
          <p:cNvSpPr/>
          <p:nvPr/>
        </p:nvSpPr>
        <p:spPr>
          <a:xfrm>
            <a:off x="3689280" y="5796000"/>
            <a:ext cx="576360" cy="576360"/>
          </a:xfrm>
          <a:prstGeom prst="ellipse">
            <a:avLst/>
          </a:prstGeom>
          <a:solidFill>
            <a:srgbClr val="1c54a6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3"/>
          <p:cNvSpPr/>
          <p:nvPr/>
        </p:nvSpPr>
        <p:spPr>
          <a:xfrm>
            <a:off x="3257640" y="6372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Flyg, inri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14"/>
          <p:cNvSpPr/>
          <p:nvPr/>
        </p:nvSpPr>
        <p:spPr>
          <a:xfrm>
            <a:off x="5273640" y="5867280"/>
            <a:ext cx="647640" cy="649440"/>
          </a:xfrm>
          <a:prstGeom prst="ellipse">
            <a:avLst/>
          </a:prstGeom>
          <a:solidFill>
            <a:srgbClr val="1c54a6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15"/>
          <p:cNvSpPr/>
          <p:nvPr/>
        </p:nvSpPr>
        <p:spPr>
          <a:xfrm>
            <a:off x="5129280" y="6659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Övri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16"/>
          <p:cNvSpPr/>
          <p:nvPr/>
        </p:nvSpPr>
        <p:spPr>
          <a:xfrm>
            <a:off x="3112920" y="1547640"/>
            <a:ext cx="432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Verdana"/>
              </a:rPr>
              <a:t>Inrikes, direkta utsläpp          </a:t>
            </a:r>
            <a:r>
              <a:rPr b="0" i="1" lang="sv-SE" sz="1800" spc="-1" strike="noStrike">
                <a:solidFill>
                  <a:srgbClr val="000000"/>
                </a:solidFill>
                <a:latin typeface="Verdana"/>
              </a:rPr>
              <a:t>(20 miljoner 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traight Connector 20"/>
          <p:cNvSpPr/>
          <p:nvPr/>
        </p:nvSpPr>
        <p:spPr>
          <a:xfrm>
            <a:off x="7434360" y="2266920"/>
            <a:ext cx="71280" cy="453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17"/>
          <p:cNvSpPr/>
          <p:nvPr/>
        </p:nvSpPr>
        <p:spPr>
          <a:xfrm>
            <a:off x="738360" y="3059280"/>
            <a:ext cx="1655640" cy="1657080"/>
          </a:xfrm>
          <a:prstGeom prst="ellipse">
            <a:avLst/>
          </a:prstGeom>
          <a:solidFill>
            <a:srgbClr val="ff0000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8"/>
          <p:cNvSpPr/>
          <p:nvPr/>
        </p:nvSpPr>
        <p:spPr>
          <a:xfrm>
            <a:off x="954000" y="349236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Flyg, internation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19"/>
          <p:cNvSpPr/>
          <p:nvPr/>
        </p:nvSpPr>
        <p:spPr>
          <a:xfrm>
            <a:off x="1096920" y="5219640"/>
            <a:ext cx="865080" cy="863640"/>
          </a:xfrm>
          <a:prstGeom prst="ellipse">
            <a:avLst/>
          </a:prstGeom>
          <a:solidFill>
            <a:srgbClr val="ff0000">
              <a:alpha val="44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21"/>
          <p:cNvSpPr/>
          <p:nvPr/>
        </p:nvSpPr>
        <p:spPr>
          <a:xfrm>
            <a:off x="520560" y="6227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Sjötransport, internatione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22"/>
          <p:cNvSpPr/>
          <p:nvPr/>
        </p:nvSpPr>
        <p:spPr>
          <a:xfrm>
            <a:off x="162000" y="1692360"/>
            <a:ext cx="280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Internationellt, direkta utsläpp  </a:t>
            </a:r>
            <a:r>
              <a:rPr b="0" i="1" lang="sv-FI" sz="1800" spc="-1" strike="noStrike">
                <a:solidFill>
                  <a:srgbClr val="000000"/>
                </a:solidFill>
                <a:latin typeface="Verdana"/>
              </a:rPr>
              <a:t>(10,5 miljoner 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24"/>
          <p:cNvSpPr/>
          <p:nvPr/>
        </p:nvSpPr>
        <p:spPr>
          <a:xfrm>
            <a:off x="1601640" y="250920"/>
            <a:ext cx="8641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FI" sz="2400" spc="-1" strike="noStrike">
                <a:solidFill>
                  <a:srgbClr val="000000"/>
                </a:solidFill>
                <a:latin typeface="Arial"/>
                <a:ea typeface="Arial"/>
              </a:rPr>
              <a:t>Utsläpp av växthusgaser från ”svenska” transporter år 2005 (CO</a:t>
            </a:r>
            <a:r>
              <a:rPr b="1" lang="sv-FI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v-FI" sz="2400" spc="-1" strike="noStrike">
                <a:solidFill>
                  <a:srgbClr val="000000"/>
                </a:solidFill>
                <a:latin typeface="Arial"/>
                <a:ea typeface="Arial"/>
              </a:rPr>
              <a:t>-ekvival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23"/>
          <p:cNvSpPr/>
          <p:nvPr/>
        </p:nvSpPr>
        <p:spPr>
          <a:xfrm>
            <a:off x="7505640" y="1619280"/>
            <a:ext cx="259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Indirekta utsläpp </a:t>
            </a:r>
            <a:r>
              <a:rPr b="0" i="1" lang="sv-FI" sz="1800" spc="-1" strike="noStrike">
                <a:solidFill>
                  <a:srgbClr val="000000"/>
                </a:solidFill>
                <a:latin typeface="Verdana"/>
              </a:rPr>
              <a:t>(4-10 miljoner 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5"/>
          <p:cNvSpPr/>
          <p:nvPr/>
        </p:nvSpPr>
        <p:spPr>
          <a:xfrm>
            <a:off x="8155080" y="2916360"/>
            <a:ext cx="934920" cy="863640"/>
          </a:xfrm>
          <a:prstGeom prst="ellipse">
            <a:avLst/>
          </a:prstGeom>
          <a:solidFill>
            <a:srgbClr val="ffc000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26"/>
          <p:cNvSpPr/>
          <p:nvPr/>
        </p:nvSpPr>
        <p:spPr>
          <a:xfrm>
            <a:off x="786600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Bränsle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8155080" y="4356000"/>
            <a:ext cx="863640" cy="792360"/>
          </a:xfrm>
          <a:prstGeom prst="ellipse">
            <a:avLst/>
          </a:prstGeom>
          <a:solidFill>
            <a:srgbClr val="ffc000">
              <a:alpha val="49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28"/>
          <p:cNvSpPr/>
          <p:nvPr/>
        </p:nvSpPr>
        <p:spPr>
          <a:xfrm>
            <a:off x="7578720" y="5075280"/>
            <a:ext cx="31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Fordon, tillverkning &amp; u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8298000" y="5796000"/>
            <a:ext cx="647640" cy="647640"/>
          </a:xfrm>
          <a:prstGeom prst="ellipse">
            <a:avLst/>
          </a:prstGeom>
          <a:solidFill>
            <a:srgbClr val="ffc000">
              <a:alpha val="49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30"/>
          <p:cNvSpPr/>
          <p:nvPr/>
        </p:nvSpPr>
        <p:spPr>
          <a:xfrm>
            <a:off x="7721640" y="6516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FI" sz="1800" spc="-1" strike="noStrike">
                <a:solidFill>
                  <a:srgbClr val="000000"/>
                </a:solidFill>
                <a:latin typeface="Verdana"/>
              </a:rPr>
              <a:t>Infrastru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traight Connector 28"/>
          <p:cNvSpPr/>
          <p:nvPr/>
        </p:nvSpPr>
        <p:spPr>
          <a:xfrm>
            <a:off x="1566720" y="3059280"/>
            <a:ext cx="0" cy="16570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130120" y="2066400"/>
            <a:ext cx="8024760" cy="4473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04840" indent="-204840">
              <a:spcBef>
                <a:spcPts val="550"/>
              </a:spcBef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800" spc="-1" strike="noStrike">
                <a:solidFill>
                  <a:srgbClr val="808080"/>
                </a:solidFill>
                <a:latin typeface="Verdana"/>
              </a:rPr>
              <a:t>På vilka sätt kan en nationell infrastrukturplan bidra till att klimatmålen uppnås?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130120" y="2066400"/>
            <a:ext cx="8024760" cy="4473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5000"/>
          </a:bodyPr>
          <a:p>
            <a:pPr marL="194400" indent="-19440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Den kan genom ny infrastruktur för ett transportslag bidra till att just detta transportslag får lägre utsläpp av växthusgaser (ovanlig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4400" indent="-19440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Den kan genom ny infrastruktur för ett transportslag bidra till att detta transportslag tar resande/gods från ett annat mindre klimatsmart transportslag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4400" indent="-19440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På lång sikt kan den bidra till att bebyggelse, service mm, lokaliseras på ett kollektivtrafikvänligt sät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4400" indent="-19440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Den kan genom förbättring av ett transportslag göra det politiskt acceptabelt att höja t ex CO2-skatt eller moms för ett konkurrerande mindre klimatsmart transportsla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94400" indent="-194400">
              <a:spcBef>
                <a:spcPts val="499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Utsläpp för bygge, drift och underhåll av ny infrastruktur behöver räknas in i alla kalky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817640" y="-360"/>
            <a:ext cx="8002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Problem med Nationella infrastrukturplanen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672920" y="1402920"/>
            <a:ext cx="8024760" cy="4473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71000"/>
          </a:bodyPr>
          <a:p>
            <a:pPr marL="145080" indent="-145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Planen uppges minska utsläppen med en promille, 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45080" indent="-145080">
              <a:spcBef>
                <a:spcPts val="550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Utsläpp för bygge av infrastrukturen är inte medräkna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45080" indent="-145080">
              <a:spcBef>
                <a:spcPts val="550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Långsiktiga strukturerande effekter av ny infrastruktur är bara delvis medräkna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145080" indent="-145080">
              <a:spcBef>
                <a:spcPts val="550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Mycket optimistiska antaganden om elbilar och förnybara drivmede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58200" indent="-1486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45% andel av nybilsförsäljningen antas vara laddhybrider 2020, med nollutsläpp vid eldrift (som det förefall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8200" indent="-1486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20% biodrivmedel antas 202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8200" indent="-1486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Verdana"/>
              <a:buChar char="-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Biodrivmedel antas ha nollutsläp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145080" indent="-145080">
              <a:spcBef>
                <a:spcPts val="550"/>
              </a:spcBef>
              <a:spcAft>
                <a:spcPts val="1199"/>
              </a:spcAft>
              <a:buClr>
                <a:srgbClr val="808080"/>
              </a:buClr>
              <a:buFont typeface="Verdana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200" spc="-1" strike="noStrike">
                <a:solidFill>
                  <a:srgbClr val="000000"/>
                </a:solidFill>
                <a:latin typeface="Verdana"/>
              </a:rPr>
              <a:t>Dessa antaganden gör att det kan se ut som om utsläppen minskar tillräckligt utan hjälp av medvetna infrastrukturinvestering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58200" indent="-1486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58200" indent="-14868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v-FI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130120" y="421920"/>
            <a:ext cx="80024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sv-FI" sz="3200" spc="-1" strike="noStrike">
                <a:solidFill>
                  <a:srgbClr val="808080"/>
                </a:solidFill>
                <a:latin typeface="Verdana"/>
              </a:rPr>
              <a:t>Direkta utsläpp vid körning för tre biltyper 2020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541" name="Picture 5" descr=""/>
          <p:cNvPicPr/>
          <p:nvPr/>
        </p:nvPicPr>
        <p:blipFill>
          <a:blip r:embed="rId1"/>
          <a:stretch/>
        </p:blipFill>
        <p:spPr>
          <a:xfrm>
            <a:off x="1962000" y="1704960"/>
            <a:ext cx="8204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0:37:05Z</dcterms:created>
  <dc:creator>mariaq</dc:creator>
  <dc:description/>
  <dc:language>en-US</dc:language>
  <cp:lastModifiedBy>840225-002</cp:lastModifiedBy>
  <dcterms:modified xsi:type="dcterms:W3CDTF">2012-03-21T15:17:22Z</dcterms:modified>
  <cp:revision>40</cp:revision>
  <dc:subject/>
  <dc:title>Bil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skrivning">
    <vt:lpwstr/>
  </property>
  <property fmtid="{D5CDD505-2E9C-101B-9397-08002B2CF9AE}" pid="3" name="Författare">
    <vt:lpwstr/>
  </property>
  <property fmtid="{D5CDD505-2E9C-101B-9397-08002B2CF9AE}" pid="4" name="Löpnummer">
    <vt:lpwstr/>
  </property>
  <property fmtid="{D5CDD505-2E9C-101B-9397-08002B2CF9AE}" pid="5" name="Serienummer">
    <vt:lpwstr/>
  </property>
  <property fmtid="{D5CDD505-2E9C-101B-9397-08002B2CF9AE}" pid="6" name="Verksamhet">
    <vt:lpwstr/>
  </property>
  <property fmtid="{D5CDD505-2E9C-101B-9397-08002B2CF9AE}" pid="7" name="display_urn:schemas-microsoft-com:office:office#Author">
    <vt:lpwstr>Mattsson Jens</vt:lpwstr>
  </property>
  <property fmtid="{D5CDD505-2E9C-101B-9397-08002B2CF9AE}" pid="8" name="display_urn:schemas-microsoft-com:office:office#Editor">
    <vt:lpwstr>Mattsson Jens</vt:lpwstr>
  </property>
</Properties>
</file>