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C05-B929-4B25-B7E5-235DC9C5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C1E-5C42-44FF-B76A-6D492A2D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BF6-2B42-40B8-B1B7-66972C08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541-A602-48ED-952E-943A4975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24C-4FCB-4FE4-9616-5F2B50B7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6F5B-DF79-4CC7-9F7B-FDBD268A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E1F8-4E3F-42DF-A434-50DF9B6A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BA46-6CBC-4885-A856-3D8F2306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A4E7-F0B5-4550-A7E7-FFE67819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1FEA-7FFB-4168-A411-64C8C5AF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DD28-A1E5-4A7C-9606-01AAA1B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BC9-2A77-4F49-B6EB-3956BB5D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9ACB-E8B6-4946-A8B0-79AB13D9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1827-CB71-41B2-A4D2-C7E07E4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67BB-D4B2-4568-A5A9-E308B109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3A81-8287-4597-8CE2-F86AAF28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CF26-122F-4811-B16B-B3327C12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F822-3FE8-45EB-9E1A-3BB04DB2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DDA0-1D5E-4195-9677-0D9EA9D3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55A5-2A9B-4DDF-8A39-944A6CFC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BF9A4-752D-488A-AB45-4350320B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7421-0A2A-408A-95E4-9642D2D1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9E5-827E-4B5E-9B30-77EFA335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3234-C783-4FCC-86F0-8E7D6159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DB08-1CB3-4E3B-8CAC-F4308AEA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96835-D2E3-4552-A863-0CC903C4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65734-FC3C-4497-B6BC-42F5FEA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AF974-4897-44AA-A45C-804D2B05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D7796-88A5-416D-B167-66181223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0E0EF-11FF-44C0-8799-065F921F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8264-E6F0-4606-A3DE-E9B86ECF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66FA9-63FD-4713-AB99-4E5F502F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8E1E2-EDF2-490C-A733-DF4F2529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F54E-BC3C-46EA-B5F0-642197A2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6B021-A4A5-41B9-A043-CE15635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E220B-22D5-4B53-BB0D-86B03E29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02816-7A43-4C93-AD4E-D96A1279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6B27-D83E-4DAC-BEF1-B913B42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D97E-124A-46E4-86E8-28892EA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263D4-3B19-45E3-A5CF-05351766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D9648-1CA5-45B8-82B4-2163047C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7EBD8-36BE-4ECE-BC1E-FE85CA62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7234-E07F-4BF9-8A1F-FD5DC2F2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52B-6351-4134-9F1A-1BA03760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6F6-7208-4B90-B95F-073BD203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E87-480C-4CD0-A43E-97728A97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E4E-90F3-4583-8B6A-869FB56F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3D1-C6C6-4768-826D-2DDA4B8B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9000" y="1258920"/>
            <a:ext cx="8759880" cy="518004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562360" y="6464160"/>
            <a:ext cx="110484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114560" y="646380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543440" y="6463800"/>
            <a:ext cx="1320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EBF8-D60C-4E92-B6D5-34AF26F089F2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115640" y="224280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9000" y="1258920"/>
            <a:ext cx="8759880" cy="518004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1798200"/>
            <a:ext cx="5648400" cy="90036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259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1907640" y="6462720"/>
            <a:ext cx="529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A283-724A-4912-BAFE-7E601C75D090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562360" y="6464160"/>
            <a:ext cx="110484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114560" y="6462720"/>
            <a:ext cx="4572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7543440" y="6463800"/>
            <a:ext cx="1320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DA9C-E032-418C-B064-49294141D6A6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15760" y="1798200"/>
            <a:ext cx="5646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489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2313000" y="6462360"/>
            <a:ext cx="44625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3218-79CD-4228-9EB0-D0E163844297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2920" y="1520640"/>
            <a:ext cx="7056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ljöbedömningar av planer och program – beslutsstöd eller alibi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14320" y="2878200"/>
            <a:ext cx="5648040" cy="32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kael Johannesson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å mycket bättre, Göteborg 8 mars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618920" y="185400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136 miljarder till underhåll av statliga vä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64 miljarder till drift och underhåll av det statliga järnvägsnä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217 miljarder till ”utveckling av transportsysteme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inst 50 % av 217 miljarder ska gå till vä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tt antal objekt bl.a. Förbifart Stockholm och Älvförbindelsen Göteborg ska ing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618920" y="90756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örutsättningar for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örutsättningarna for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200" y="206028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ör att underlätta för regeringens analys av planerna ska det av dessa framgå i vilken ordning de ingående åtgärderna priorite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eringen mellan ingående åtgärder bör inte skilja sig mellan de tre olika beloppsnivåerna. En enskild åtgärds utformning bör inte heller variera mellan de olika beloppsnivåern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örutsättning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70578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 åtgärder som genomförs i transportinfrastrukturen bidrar till att miljökvalitetsmålen uppnås och till ökad hälsa.” Prop. 2008/2009:93 s. 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ransportsektorn bidrar till att miljökvalitetsmålet Begränsad klimatpåverkan nås genom stegvis ökad energieffektivitet i transportsystemet och ett brutet fossilberoende. År 2030 bör Sverige har en fordonsflotta som är oberoende av fossila bränslen.” s. 5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5080" y="1915920"/>
            <a:ext cx="73789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a problem eller mål (saknas prioritering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lut om olika åtgärder (vägar, järnvägar, underhåll etc.) redan fattade när åtgärdsplaneringen bör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a kostnadseffektiva och alternativa sätt att nå målen (svårt eller omöjli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ast ett alternativ, planförslag tas f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skt beslut om att modifiera förslaget (kräver ev. omarbetning av MKB och nytt samrå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plettering av beslutad plan. Ändring av plan kräver behovsbedömning och eventuellt ny miljöbedöm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ringen görs delvis om redan efter två år ”Kapacitetsutredning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28680" y="981000"/>
            <a:ext cx="69771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nering &amp; miljöbedömning i praktik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örutsättningarna for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4200" y="206028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ör att underlätta för regeringens analys av planerna ska det av dessa framgå i vilken ordning de ingående åtgärderna priorite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eringen mellan ingående åtgärder bör inte skilja sig mellan de tre olika beloppsnivåerna. En enskild åtgärds utformning bör inte heller variera mellan de olika beloppsnivåern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ndrar ett kostnadseffektivt användande av peng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ndrar/försvårar möjligheten att ta fram planer med alternativ inrikt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5548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litiskt beslutsdilemma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5548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luta om både mål och åtgä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cc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ämre måluppfyllelse ej kostnadseffekti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luta om mål och välja bland förslag till åtgä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cc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ättre måluppfyllelse och kostnadseffekti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114200" y="1628640"/>
            <a:ext cx="664524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4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ålkonflik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förstoring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skad miljöbelast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kad kapacitet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skad miljöbelast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Ökad hande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inskad miljöbelast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uts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kan inte få allt jäm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 måste prioriter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836640"/>
            <a:ext cx="66452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turvårdsverkets kommentar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1593360"/>
            <a:ext cx="7489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 ska finnas men sak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visning av varför man valt det alternativ man val sak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stande redovisning av osäkerheter, antaganden, val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knas t.ex. alternativ plan som är optimal ur klimatsynpu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llalternativet = EET men det är inget riktigt nollaltern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dligare redovisa målkonflikter mellan planeringsdirektiven och transportpolitiska må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n bidrar inte till att klimatmålen nå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der mot planeringsdirekt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55480" y="76464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turvårdsverkets kommentarer for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12560" y="1555560"/>
            <a:ext cx="664524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ör stort fokus på tillgänglighet i förhållande till minska energianvändning och negativa miljöeffekter som t.ex. klimatpåver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n bidrar till ökat persontransportarbete jämfört med nollalternativ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let bullerstörda ök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limatutsläppen kraftigt underskattade av flera skä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nducerad trafik på längre si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ptimistiskt antagande angående antalet elb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ldioxidutsläpp från ökad/minskad elanvänd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82400" y="98064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aturvårdsverket, särskilda yttran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82400" y="1927080"/>
            <a:ext cx="664524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förslagens påverkan på transportsektorns totala koldioxidutsläpp beräknas bli marginell. De föreslagna planerna bidar alltså inte till att klimatmålen nå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vårdsverket delar därför inte trafikverkens samlade bedömning att planerna bidrar till uppfyllelse av de transportpolitiska målen eller till en långsiktigt hållbar transportförsörjning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Även Boverket och Riksantikvarieämbetet lämnade särskilda yttr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7345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lka planer och program ska miljöbedöma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r och program som upprättas eller ändras av en kommun eller myndig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r och program som krävs i lag eller annan författ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förandet av planen, programmet eller ändringen kan antas medföra betydande miljöpåver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4653000"/>
            <a:ext cx="527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cc0000"/>
                </a:solidFill>
                <a:latin typeface="Arial"/>
              </a:rPr>
              <a:t>Nationella transportinfrastrukturplaner och länsstransportplaner uppfyller dessa krite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ljöbedömning är ingen bedömning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iljöbedömning är en process med ett 10-tal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2-4 samråd, upprätta en MKB (doku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KB:n ska identifiera, beskriva och bedöma den betydande miljöpåverkan genomförandet kan antas medfö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imliga alternativ ska identifieras, beskrivas och bedö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ppfölj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4642" r="0" b="2335"/>
          <a:stretch/>
        </p:blipFill>
        <p:spPr>
          <a:xfrm>
            <a:off x="2103480" y="260280"/>
            <a:ext cx="499248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4200" y="907560"/>
            <a:ext cx="66452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fte och mål med miljöbedöm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era miljöaspekter i planen eller programmet så att en hållbar utveckling främjas (MB 6 kap. 11 §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örja för hög nivå på skyddet av miljön inom EU (2001/42/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dra till en öppnare beslutsprocess med bl.a. samråd (2001/42/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KB ska utgöra beslutsunderlag då planen eller programmet fastställs (MB rubrik 6 kap. prop. 2003/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 ska möjliggöra strategiska val (prop. 2003/04:1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30200" y="1341360"/>
            <a:ext cx="698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ljöbedömningen ska:</a:t>
            </a:r>
            <a:br>
              <a:rPr sz="2400"/>
            </a:br>
            <a:br>
              <a:rPr sz="2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5640" y="2133360"/>
            <a:ext cx="75596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åverka planens utformning och innehå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öjliggöra strategiska v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erad plan- och miljöbedömningsproces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 en bedömning i efterhan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6760" y="836640"/>
            <a:ext cx="66452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geringen om miljöbedöm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6760" y="1782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ringsbeslut 2008-01-17 ”uppdrag om att inleda åtgärdsplaner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veckla en metod för genomförande av strategiska miljöbedömningar i enlighet med förordningen (1998:905) om miljökonsekvensbeskrivningar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ringsbeslut 2008-12-19 ”uppdrag att genomföra åtgärdsplaner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samlad bedömning av planernas miljöpåverkan ska göras. I denna bör ingå sådana uppgifter som anges i 6 kap. 12 § miljöbalk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7440" y="907560"/>
            <a:ext cx="6645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nering &amp; miljöbedömning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ller &amp; ansv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4560" y="2169720"/>
            <a:ext cx="70466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a problem eller mål, specificera och prioritera mellan olika mål (Politiska besl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a kostnadseffektiva och alternativa sätt att nå målen (Myndighet och exper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råd med allmänhet och intres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kta synpun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älj och genomför alternativ/plan (Politiska besl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ölj upp och vidta korrigerande åtgä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82400" y="692280"/>
            <a:ext cx="66452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örutsättning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200" y="1484280"/>
            <a:ext cx="6645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geringsbeslut om åtgärdsplanering 2008-12-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mmunikationer med utgångspunkt från resenärers, företags och samhällets behov, som amtidigt är förenliga med klimat- och miljökvalitetsmå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15 % respektive 25 % mer/mindre än planering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elatera till de transportpolitiska må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amhällsekonomisk effektivitet, samlad effektbedöm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ka ”särskilt bidra till” 12 punkter varav flera punkter innehåller flera aspekter t.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tt ny befintlig infrastruktur anpassas för att minska negativa miljöeffekter såsom luftföroreningar, buller, barriäreffekter, landskapsfragmentering, energiåtgång och klimatpåverkande utsläp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03:26Z</dcterms:created>
  <dc:creator>mij</dc:creator>
  <dc:description/>
  <dc:language>en-US</dc:language>
  <cp:lastModifiedBy>840225-002</cp:lastModifiedBy>
  <dcterms:modified xsi:type="dcterms:W3CDTF">2012-03-21T15:12:26Z</dcterms:modified>
  <cp:revision>48</cp:revision>
  <dc:subject/>
  <dc:title>Verkningsfulla miljöbedömningar av planer och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skrivning">
    <vt:lpwstr/>
  </property>
  <property fmtid="{D5CDD505-2E9C-101B-9397-08002B2CF9AE}" pid="3" name="Författare">
    <vt:lpwstr/>
  </property>
  <property fmtid="{D5CDD505-2E9C-101B-9397-08002B2CF9AE}" pid="4" name="Löpnummer">
    <vt:lpwstr/>
  </property>
  <property fmtid="{D5CDD505-2E9C-101B-9397-08002B2CF9AE}" pid="5" name="Serienummer">
    <vt:lpwstr/>
  </property>
  <property fmtid="{D5CDD505-2E9C-101B-9397-08002B2CF9AE}" pid="6" name="Verksamhet">
    <vt:lpwstr/>
  </property>
  <property fmtid="{D5CDD505-2E9C-101B-9397-08002B2CF9AE}" pid="7" name="display_urn:schemas-microsoft-com:office:office#Author">
    <vt:lpwstr>Mattsson Jens</vt:lpwstr>
  </property>
  <property fmtid="{D5CDD505-2E9C-101B-9397-08002B2CF9AE}" pid="8" name="display_urn:schemas-microsoft-com:office:office#Editor">
    <vt:lpwstr>Mattsson Jens</vt:lpwstr>
  </property>
</Properties>
</file>